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66C-B7B5-47CC-9B8B-2C632A40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F73-FBCD-4342-81F0-DD61D08C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F00-0DD6-48DC-A9A3-5C1D8A24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AEE-5B97-466C-ABA0-78DEE1BB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E6A-894B-4C9C-8D23-F54C8BB3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1CC-AF9F-4B03-B9A9-8AF78331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602-AC83-45ED-8873-495CBDE7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C26-F522-4A01-B5AC-0D248D3A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1D0-A056-4CB4-84A0-2F754E76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A4A-C07F-4507-96E7-564AD16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A59-7334-43FA-9013-1D7A42DF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1E7-F9AC-4CDA-9480-A983ACA2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31E0-53BF-470F-8785-74A4CF377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8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крытие Антарк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тавьте правильно подписи под портретами великих русских путешествен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Беллинсгаузен Фадей Фад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Дежнёв Семё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Лазарев Михаил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3520" y="304920"/>
            <a:ext cx="8001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75112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0" y="3505320"/>
            <a:ext cx="2843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22622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42100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овите имена этих отваж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57200" y="274680"/>
            <a:ext cx="82296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846840" y="144792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2335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447920" y="3962520"/>
            <a:ext cx="2590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0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2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</cp:lastModifiedBy>
  <dcterms:modified xsi:type="dcterms:W3CDTF">2019-03-02T20:55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