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11F-0823-4C49-9C0C-3511ED7D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DBC-AB46-4A9D-87B1-CF0D3ED3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C0A-21FC-42F8-840E-61BC2FE3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2FF-E1F9-43E6-9EA9-B811631D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8F3-0F56-4930-97F5-3B38C2CB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310-81D1-4BFC-9DEF-7643D48F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5B1-A01A-47CE-AF4B-4A504C1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6C0-00FA-4C39-BB5C-32E8D001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838-B2BC-4976-A3FC-30F5CCB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2BF-1D68-413C-A74D-DBA859B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9BA-0EAF-4349-ACBF-BE741AE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290-F296-4151-A4DD-08108C3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6B5B-6F4D-4034-B20F-2306E89FB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8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525744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8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асставьте правильно подписи под портретами великих русских путешествен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Беллинсгаузен Фадей Фад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Дежнёв Семё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азарев Михаил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533520" y="304920"/>
            <a:ext cx="8001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75112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0" y="3505320"/>
            <a:ext cx="284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7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8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226224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200400" y="1371600"/>
            <a:ext cx="2421000" cy="304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зовите имена этих отваж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846840" y="144792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2335320" cy="29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2590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</cp:lastModifiedBy>
  <dcterms:modified xsi:type="dcterms:W3CDTF">2019-03-02T20:55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