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47B-4B89-4D16-9627-655FAE72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6D3-5715-42E2-BFC1-5022E0AC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DD8-B24D-4F7D-B07A-F5947818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B23-8178-405D-899B-53F60C5E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3D9-E401-4DA0-AAA0-FE990F33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8CB-BA79-43DA-83B8-2C07B9A4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C00-B70A-410E-BF2D-EAC32304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D65-D4D2-408D-BDB7-9EC1C6A0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8CC-5844-485D-B286-3E55229E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49B-79C5-4B7E-B63B-9F46942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E23-0853-4CBF-A0C3-11AC5423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7B9-BFF6-485A-BA39-7122CF74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4033-AE3F-48E5-A573-F2E148642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8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525744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38088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лики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ографическ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39" t="0" r="0" b="260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ско Нуньес де Бальбоа обнаруж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за американским континен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стирается мор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ернан Магеллан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решил до него д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нтябре 1519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года во главе флотилии из пяти небольших кораблей Магеллан вышел из порта город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виль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и взял курс на Бразилию. Проплыв на юг вдоль берегов Южной Америки, Магеллан нашёл узкий и извилистый пролив, по которому его корабли вышли в океан. Это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позже назвал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гела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808680" y="0"/>
            <a:ext cx="233532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304920" y="304920"/>
            <a:ext cx="61722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Открытие Тихого оке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9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685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</a:t>
            </a:r>
            <a:r>
              <a:rPr b="0" i="1" lang="en-US" sz="3200" spc="-1" strike="noStrike">
                <a:solidFill>
                  <a:srgbClr val="660066"/>
                </a:solidFill>
                <a:latin typeface="Georgia"/>
              </a:rPr>
              <a:t>XVII</a:t>
            </a: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 веке на просторы тихого океана вышли голлан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Открыли крупный остров - Новая Гвинея – и часть северного побережья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1642 году капитан Абел Тасман открыл большой остров к югу от Австралии, впоследствии названный в его честь Тасманией и Новую Зелан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553080" y="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73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37920" y="15192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648 году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мён Иванович Дежнё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открыл пролив между Азией и Америкой, пройдя из Ледовитого океана в Ти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740 году, капитан – командор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итус Беринг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повторил путь Дежнёва, достигнув Северной Америки и открыл ряд островов Алеутской г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19720" y="2733840"/>
            <a:ext cx="472428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809880" y="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орепл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жеймс К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уст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сятиле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очность кар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ставленных Бери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к совершил три кругосве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к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ая Зеланд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 острова, а не один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й Барьерный риф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ёс 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карту Тихог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еана сотни новых острово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юге открыл Гавайские ост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5410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О присутствии в районе Южного полюса материка, догадывались ещё в древности. Его искали и Абел Тасман и Джеймс Ку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Нашли русские моряки – Фадей Фадеевич Беллинсгаузен и Михаил Петрович Лазаре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1819 году экспедиция под их командованием на двух шлюпках – «Восток» и «Мирный» - отправились из Кронштад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Цель экспедиции –была достигнута. Мореплаватели увидели гористый берег. Так был открыт новый материк, покрытый вечными льд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первые человек ступил на землю Антарктиды только в 189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наше время находятся научно – исследовательские станции 24 государ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53352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крытие Антаркт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5181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рвежский исследователь Фритьоф Нансен в 1893 году на корабле «Фрам». За 500 километров до полюса корабль застрял во льдах, путешественник вернулся обратно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Американец Роберт Эдвин Пири добрался до полюса на оленьих упря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7 сентября 1908 года. Водрузил Американский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304920" y="152280"/>
            <a:ext cx="5333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Северного полю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9512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Норвежец Руаль Амундсе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эскимосских ездовых собаках и лёгких санях в меховой одежде отправился в 1911 году к Южному полюсу и достиг его 14 декаб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глийский офицер Роберт Фолкон Скот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маленьких лошадках-пони в шерстяной и брезентовой одежде тоже отправился к Южному полюсу и пришёл на месяц поз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обратном пути англичане поги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7874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895480" y="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южного полюс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тавьте правильно подписи под портретами великих русских путешествен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Беллинсгаузен Фадей Фад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Дежнёв Семё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Лазарев Михаил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533520" y="304920"/>
            <a:ext cx="8001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275112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0" y="3505320"/>
            <a:ext cx="2843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жнё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ар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429000" y="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-6480" y="2057400"/>
            <a:ext cx="256068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7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7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7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226224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42100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зовите имена этих отваж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57200" y="274680"/>
            <a:ext cx="82296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846840" y="144792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23353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1447920" y="3962520"/>
            <a:ext cx="2590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72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д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тешествовали всегда. Много-много тысяч лет назад древние охотники пускались в путь, чтобы найти охотничьи угодья. Древние скотоводы вместе со своими стадами отправлялись в многодневные походы на поиски свежих пастбищ. Люди осваивали новые земли, пересекали пустыни и перебирались через горы, на лёгких лодочках переплывали моря и даже оке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Географические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открытия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е человеку стремление к более глубокому познанию окружающего его мира повлекло за со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ареа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и. Лю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мились 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жизнью разных народов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ь новые неизвест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и и стра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ли сотни лет, прежд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явились современн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ы, суда, приборы для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я безопас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3526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амые первые карты выглядели как рисунки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Так, древний путешественник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ять тысяч лет назад изобразил на серебряной вазе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две реки, текущие с гор в озеро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горы, покрытые лесом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 по берегам рек —разных животных, которые там об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568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рошло время, и люди научились писать.     Тогда путешественники стали записывать, где они побывали и что видел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ервым путешественником, чьё имя нам известно, был египтянин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Ханну.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На корабле он проплыл по Красному морю на юг, в страну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Пунт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, и вернулся в Египет с грузом благовоний и драгоценных камней. Рассказ о плавании Ханну был высечен на ск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1792440"/>
            <a:ext cx="4572000" cy="384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1500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Король и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страны Пу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36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27432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Замечательными путешественниками были финикийцы, жившие на берегу Средиземного моря. В древнем мире они были самыми искусными мореходами. Финикийцам удалось первыми обогнуть на кораблях Африку. </a:t>
            </a:r>
            <a:br>
              <a:rPr sz="2000"/>
            </a:b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ни путешествовали три года. Осенью высаживались на берег, сеяли пшеницу, собирали урожай и снова двигались в путь.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Рассказ об этом записан древнегреческим историком Герод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а севере Европы, в Скандинавии, жили суровые викинги. Они строили хорошие корабли и уходили на них далеко в море в поисках новых земель и добычи. Суда викингов огибали Европу, они открыли Исландию, а в </a:t>
            </a:r>
            <a:r>
              <a:rPr b="0" i="1" lang="en-US" sz="2000" spc="-1" strike="noStrike">
                <a:solidFill>
                  <a:srgbClr val="0000ff"/>
                </a:solidFill>
                <a:latin typeface="Georgia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веке достигли Северной Америки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 основали первые поселения. Потом этот путь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был забыт, и пять столетий спустя Колумбу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ишлось заново открывать Аме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95280" y="4572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кар – корабль викингов. Нос корабля украшало резное изображение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1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765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39579" r="128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Georgia"/>
              </a:rPr>
              <a:t>Бартоломеу Ди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15228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ндия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всегда представлялась жителям Европы сказочной страной, полной диковин и сокровищ. Она славилась пряностями и благовониями. Португальский мореплаватель Бартоломеу Диаш в 1487 году обогнул самую южную оконечность Африки и назвал её мысом Бу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296040" y="0"/>
            <a:ext cx="28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608880" y="3962520"/>
            <a:ext cx="253512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52280"/>
            <a:ext cx="647676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орской путь в Индию вокруг Африки проложил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Васко да Гам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Его экспедиция была тщательно подготовлена: четыре быстроходных корабля, лучшие навигационные приборы и опытные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богнув мыс Доброй Надежды, экспедиция направилась на север вдоль побережья Африки.   Через девять месяцев после начала плавания, майским днём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1498 год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, корабли прибыли в индийский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город Каликут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естному правителю, жившему в роскошном дворце, не понравились скромные подарки португальцев, но он с любопытством слушал рассказы бородатых незнакомцев о далё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риентироваться в море морякам помогали навигационные приборы, в том числе и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астролябия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– инструмент для измерения высоты звёзд над уровнем гориз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2320" y="3429000"/>
            <a:ext cx="2641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истофор Колумб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одился в 14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ду в итальянском городе Ген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14 лет – плавал юнгрой, из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еходное дело, географ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етом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49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ода – каравел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Санта - Мария», «Пинта», «Нин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шли из испанского порта Па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рез два месяца причалил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му     остр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озгласили  его вла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анского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 самой смерти Колумб был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 нашёл путь в Инд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тальянский путешествен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мериго Веспучч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новы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ван в его 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9450"/>
                            </p:stCondLst>
                            <p:childTnLst>
                              <p:par>
                                <p:cTn id="2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2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</cp:lastModifiedBy>
  <dcterms:modified xsi:type="dcterms:W3CDTF">2019-03-02T20:55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