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206D-B80F-4B82-8A1F-E96928B99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13C7-9B98-4783-A41F-9CEFAA914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8C0F-3ACD-4072-8C0C-76DBFDD17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9A76-5A43-48CC-8099-932286321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8B35-2B79-48BD-87ED-4B3019080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77BD-1A6A-4ADB-B105-E49C3D84B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0D6D-903E-490F-B812-10BB9B1EE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78E2-BA67-4C67-8C60-DC243BCAD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D098-CFBD-4942-99B3-EB103F340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04D0-4725-4348-B1A9-EFB631EA9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4E53-C90F-4267-B3B9-D4FB7A2F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4993-FF92-42A6-BB87-02A570CA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21206-766F-4B5D-85A8-64EBE5D718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18.jpe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-360" y="5257440"/>
            <a:ext cx="25909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228600" y="380880"/>
            <a:ext cx="86868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еликие 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географические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крытия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rcRect l="2039" t="0" r="0" b="2602"/>
          <a:stretch/>
        </p:blipFill>
        <p:spPr>
          <a:xfrm>
            <a:off x="4495680" y="0"/>
            <a:ext cx="464832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0" y="144792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Васко Нуньес де Бальбоа обнаружил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что за американским континент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простирается море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Фернан Магеллан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решил до него добра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В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сентябре 1519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года во главе флотилии из пяти небольших кораблей Магеллан вышел из порта города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Севилья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и взял курс на Бразилию. Проплыв на юг вдоль берегов Южной Америки, Магеллан нашёл узкий и извилистый пролив, по которому его корабли вышли в океан. Этот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пролив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позже назвали 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Магеланов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3"/>
          <a:stretch/>
        </p:blipFill>
        <p:spPr>
          <a:xfrm>
            <a:off x="6808680" y="0"/>
            <a:ext cx="2335320" cy="2971800"/>
          </a:xfrm>
          <a:prstGeom prst="rect">
            <a:avLst/>
          </a:prstGeom>
          <a:ln w="0">
            <a:noFill/>
          </a:ln>
        </p:spPr>
      </p:pic>
      <p:sp>
        <p:nvSpPr>
          <p:cNvPr id="74" name="WordArt 6"/>
          <p:cNvSpPr txBox="1"/>
          <p:nvPr/>
        </p:nvSpPr>
        <p:spPr>
          <a:xfrm>
            <a:off x="304920" y="304920"/>
            <a:ext cx="617220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Открытие Тихого океан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3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77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5" dur="770" fill="hold"/>
                                        <p:tgtEl>
                                          <p:spTgt spid="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7" dur="77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9" dur="77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rcRect l="0" t="0" r="0" b="396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6858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66"/>
                </a:solidFill>
                <a:latin typeface="Georgia"/>
              </a:rPr>
              <a:t>В </a:t>
            </a:r>
            <a:r>
              <a:rPr b="0" i="1" lang="en-US" sz="3200" spc="-1" strike="noStrike">
                <a:solidFill>
                  <a:srgbClr val="660066"/>
                </a:solidFill>
                <a:latin typeface="Georgia"/>
              </a:rPr>
              <a:t>XVII</a:t>
            </a:r>
            <a:r>
              <a:rPr b="0" i="1" lang="ru-RU" sz="3200" spc="-1" strike="noStrike">
                <a:solidFill>
                  <a:srgbClr val="660066"/>
                </a:solidFill>
                <a:latin typeface="Georgia"/>
              </a:rPr>
              <a:t> веке на просторы тихого океана вышли голландц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66"/>
                </a:solidFill>
                <a:latin typeface="Georgia"/>
              </a:rPr>
              <a:t>Открыли крупный остров - Новая Гвинея – и часть северного побережья Австрал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66"/>
                </a:solidFill>
                <a:latin typeface="Georgia"/>
              </a:rPr>
              <a:t>В 1642 году капитан Абел Тасман открыл большой остров к югу от Австралии, впоследствии названный в его честь Тасманией и Новую Зеланд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0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6" nodeType="after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62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65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68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rcRect l="0" t="0" r="0" b="11108"/>
          <a:stretch/>
        </p:blipFill>
        <p:spPr>
          <a:xfrm>
            <a:off x="6553080" y="0"/>
            <a:ext cx="2590920" cy="3352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3165480" cy="3733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"/>
          <p:cNvPicPr/>
          <p:nvPr/>
        </p:nvPicPr>
        <p:blipFill>
          <a:blip r:embed="rId3"/>
          <a:stretch/>
        </p:blipFill>
        <p:spPr>
          <a:xfrm>
            <a:off x="0" y="3352680"/>
            <a:ext cx="9144000" cy="35053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437920" y="151920"/>
            <a:ext cx="4496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В 1648 году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Семён Иванович Дежнёв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 открыл пролив между Азией и Америкой, пройдя из Ледовитого океана в Тих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В 1740 году, капитан – командор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Витус Беринг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 повторил путь Дежнёва, достигнув Северной Америки и открыл ряд островов Алеутской гря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0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2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9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54864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4419720" y="2733840"/>
            <a:ext cx="4724280" cy="4124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3809880" y="0"/>
            <a:ext cx="2725920" cy="32767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80520" y="151920"/>
            <a:ext cx="853452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Англий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мореплавате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Джеймс Ку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спуст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десятилет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подтверди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точность кар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составленных Беринг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                                             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Кук совершил три кругосвет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                                                                            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путешест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Доказ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то Новая Зеландия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ва острова, а не один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Изу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ил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ольшой Барьерный риф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ёс на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 карту Тихого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кеана сотни новых островов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юге открыл Гавайские остров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десь трагически поги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0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3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3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4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5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6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7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7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8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9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50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50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51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2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3886200" y="1447920"/>
            <a:ext cx="5257800" cy="5410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5654520" y="2743200"/>
            <a:ext cx="3489480" cy="4114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"/>
          <p:cNvPicPr/>
          <p:nvPr/>
        </p:nvPicPr>
        <p:blipFill>
          <a:blip r:embed="rId3"/>
          <a:stretch/>
        </p:blipFill>
        <p:spPr>
          <a:xfrm>
            <a:off x="5688000" y="0"/>
            <a:ext cx="3456000" cy="46483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541008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a5002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a50021"/>
                </a:solidFill>
                <a:latin typeface="Georgia"/>
              </a:rPr>
              <a:t>О присутствии в районе Южного полюса материка, догадывались ещё в древности. Его искали и Абел Тасман и Джеймс Кук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a5002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a50021"/>
                </a:solidFill>
                <a:latin typeface="Georgia"/>
              </a:rPr>
              <a:t>Нашли русские моряки – Фадей Фадеевич Беллинсгаузен и Михаил Петрович Лазарев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a5002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a50021"/>
                </a:solidFill>
                <a:latin typeface="Georgia"/>
              </a:rPr>
              <a:t>В 1819 году экспедиция под их командованием на двух шлюпках – «Восток» и «Мирный» - отправились из Кронштад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a5002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a50021"/>
                </a:solidFill>
                <a:latin typeface="Georgia"/>
              </a:rPr>
              <a:t>Цель экспедиции –была достигнута. Мореплаватели увидели гористый берег. Так был открыт новый материк, покрытый вечными льдам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a5002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a50021"/>
                </a:solidFill>
                <a:latin typeface="Georgia"/>
              </a:rPr>
              <a:t>Впервые человек ступил на землю Антарктиды только в 1895 году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a5002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a50021"/>
                </a:solidFill>
                <a:latin typeface="Georgia"/>
              </a:rPr>
              <a:t>В наше время находятся научно – исследовательские станции 24 государств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WordArt 6"/>
          <p:cNvSpPr txBox="1"/>
          <p:nvPr/>
        </p:nvSpPr>
        <p:spPr>
          <a:xfrm>
            <a:off x="380880" y="533520"/>
            <a:ext cx="800100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Открытие Антарктид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0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77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4" dur="770" fill="hold"/>
                                        <p:tgtEl>
                                          <p:spTgt spid="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6" dur="77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8" dur="77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1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4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5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6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56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7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58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88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593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1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518184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Норвежский исследователь Фритьоф Нансен в 1893 году на корабле «Фрам». За 500 километров до полюса корабль застрял во льдах, путешественник вернулся обратно пешк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Американец Роберт Эдвин Пири добрался до полюса на оленьих упряжка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7 сентября 1908 года. Водрузил Американский фла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5791320" y="0"/>
            <a:ext cx="335268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"/>
          <p:cNvPicPr/>
          <p:nvPr/>
        </p:nvPicPr>
        <p:blipFill>
          <a:blip r:embed="rId2"/>
          <a:stretch/>
        </p:blipFill>
        <p:spPr>
          <a:xfrm>
            <a:off x="5791320" y="0"/>
            <a:ext cx="3352680" cy="3352680"/>
          </a:xfrm>
          <a:prstGeom prst="rect">
            <a:avLst/>
          </a:prstGeom>
          <a:ln w="0">
            <a:noFill/>
          </a:ln>
        </p:spPr>
      </p:pic>
      <p:sp>
        <p:nvSpPr>
          <p:cNvPr id="94" name="WordArt 5"/>
          <p:cNvSpPr txBox="1"/>
          <p:nvPr/>
        </p:nvSpPr>
        <p:spPr>
          <a:xfrm>
            <a:off x="304920" y="152280"/>
            <a:ext cx="53337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крытие Северного полюса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0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8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2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2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62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25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2895120" y="914400"/>
            <a:ext cx="62485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Норвежец Руаль Амундсен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на эскимосских ездовых собаках и лёгких санях в меховой одежде отправился в 1911 году к Южному полюсу и достиг его 14 декабр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Английский офицер Роберт Фолкон Скотт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на маленьких лошадках-пони в шерстяной и брезентовой одежде тоже отправился к Южному полюсу и пришёл на месяц позж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На обратном пути англичане погиб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787480" cy="40384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"/>
          <p:cNvPicPr/>
          <p:nvPr/>
        </p:nvPicPr>
        <p:blipFill>
          <a:blip r:embed="rId3"/>
          <a:stretch/>
        </p:blipFill>
        <p:spPr>
          <a:xfrm>
            <a:off x="0" y="4038480"/>
            <a:ext cx="2743200" cy="2819520"/>
          </a:xfrm>
          <a:prstGeom prst="rect">
            <a:avLst/>
          </a:prstGeom>
          <a:ln w="0">
            <a:noFill/>
          </a:ln>
        </p:spPr>
      </p:pic>
      <p:sp>
        <p:nvSpPr>
          <p:cNvPr id="99" name="WordArt 6"/>
          <p:cNvSpPr txBox="1"/>
          <p:nvPr/>
        </p:nvSpPr>
        <p:spPr>
          <a:xfrm>
            <a:off x="2895480" y="0"/>
            <a:ext cx="6248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крытие южного полюса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nodeType="clickEffect" fill="hold">
                      <p:stCondLst>
                        <p:cond delay="0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4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5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2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2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2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6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66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8" dur="2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2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Расставьте правильно подписи под портретами великих русских путешественник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Беллинсгаузен Фадей Фаде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Дежнёв Семён Иван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Лазарев Михаил Петр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3"/>
          <p:cNvSpPr txBox="1"/>
          <p:nvPr/>
        </p:nvSpPr>
        <p:spPr>
          <a:xfrm>
            <a:off x="533520" y="304920"/>
            <a:ext cx="80010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верь себя!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6319800" y="3505320"/>
            <a:ext cx="2824200" cy="3352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2"/>
          <a:stretch/>
        </p:blipFill>
        <p:spPr>
          <a:xfrm>
            <a:off x="3200400" y="3505320"/>
            <a:ext cx="2751120" cy="33526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"/>
          <p:cNvPicPr/>
          <p:nvPr/>
        </p:nvPicPr>
        <p:blipFill>
          <a:blip r:embed="rId3"/>
          <a:stretch/>
        </p:blipFill>
        <p:spPr>
          <a:xfrm>
            <a:off x="0" y="3505320"/>
            <a:ext cx="28432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0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8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9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9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0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2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2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2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2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Дежнё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                                             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емё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                                             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Ивано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Лазаре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             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Миха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             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етро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Беллинсгауз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                               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Фадей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                         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Фадее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429000" y="0"/>
            <a:ext cx="2658960" cy="2971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"/>
          <p:cNvPicPr/>
          <p:nvPr/>
        </p:nvPicPr>
        <p:blipFill>
          <a:blip r:embed="rId2"/>
          <a:stretch/>
        </p:blipFill>
        <p:spPr>
          <a:xfrm>
            <a:off x="-6480" y="2057400"/>
            <a:ext cx="2560680" cy="3124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"/>
          <p:cNvPicPr/>
          <p:nvPr/>
        </p:nvPicPr>
        <p:blipFill>
          <a:blip r:embed="rId3"/>
          <a:stretch/>
        </p:blipFill>
        <p:spPr>
          <a:xfrm>
            <a:off x="6319800" y="3505320"/>
            <a:ext cx="28242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4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5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6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280"/>
                            </p:stCondLst>
                            <p:childTnLst>
                              <p:par>
                                <p:cTn id="7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0" dur="8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1" dur="8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2" dur="8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nodeType="afterEffect" fill="hold">
                            <p:stCondLst>
                              <p:cond delay="520"/>
                            </p:stCondLst>
                            <p:childTnLst>
                              <p:par>
                                <p:cTn id="7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6" dur="8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7" dur="8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8" dur="8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nodeType="afterEffect" fill="hold">
                            <p:stCondLst>
                              <p:cond delay="880"/>
                            </p:stCondLst>
                            <p:childTnLst>
                              <p:par>
                                <p:cTn id="7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7" dur="8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8" dur="8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9" dur="8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2" dur="8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3" dur="8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4" dur="8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7" dur="8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8" dur="8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9" dur="8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360"/>
                            </p:stCondLst>
                            <p:childTnLst>
                              <p:par>
                                <p:cTn id="7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8" dur="8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9" dur="8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0" dur="8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3" dur="80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4" dur="80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5" dur="80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8" dur="80"/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9" dur="80"/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0" dur="80"/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0" y="1523880"/>
            <a:ext cx="2262240" cy="3276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2"/>
          <a:stretch/>
        </p:blipFill>
        <p:spPr>
          <a:xfrm>
            <a:off x="3200400" y="1371600"/>
            <a:ext cx="2421000" cy="3048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Назовите имена этих отважных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WordArt 5"/>
          <p:cNvSpPr txBox="1"/>
          <p:nvPr/>
        </p:nvSpPr>
        <p:spPr>
          <a:xfrm>
            <a:off x="457200" y="274680"/>
            <a:ext cx="8229600" cy="56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верь себя!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3" name="Picture 6" descr=""/>
          <p:cNvPicPr/>
          <p:nvPr/>
        </p:nvPicPr>
        <p:blipFill>
          <a:blip r:embed="rId3"/>
          <a:stretch/>
        </p:blipFill>
        <p:spPr>
          <a:xfrm>
            <a:off x="6846840" y="1447920"/>
            <a:ext cx="2297160" cy="2971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"/>
          <p:cNvPicPr/>
          <p:nvPr/>
        </p:nvPicPr>
        <p:blipFill>
          <a:blip r:embed="rId4"/>
          <a:stretch/>
        </p:blipFill>
        <p:spPr>
          <a:xfrm>
            <a:off x="4800600" y="3886200"/>
            <a:ext cx="2335320" cy="2971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"/>
          <p:cNvPicPr/>
          <p:nvPr/>
        </p:nvPicPr>
        <p:blipFill>
          <a:blip r:embed="rId5"/>
          <a:stretch/>
        </p:blipFill>
        <p:spPr>
          <a:xfrm>
            <a:off x="1447920" y="3962520"/>
            <a:ext cx="25905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nodeType="clickEffect" fill="hold">
                      <p:stCondLst>
                        <p:cond delay="0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4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5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7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5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67206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Люди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путешествовали всегда. Много-много тысяч лет назад древние охотники пускались в путь, чтобы найти охотничьи угодья. Древние скотоводы вместе со своими стадами отправлялись в многодневные походы на поиски свежих пастбищ. Люди осваивали новые земли, пересекали пустыни и перебирались через горы, на лёгких лодочках переплывали моря и даже океа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Comic Sans MS"/>
              </a:rPr>
              <a:t>Географические</a:t>
            </a:r>
            <a:br>
              <a:rPr sz="4000"/>
            </a:br>
            <a:r>
              <a:rPr b="0" lang="ru-RU" sz="4000" spc="-1" strike="noStrike">
                <a:solidFill>
                  <a:srgbClr val="ff0066"/>
                </a:solidFill>
                <a:latin typeface="Comic Sans MS"/>
              </a:rPr>
              <a:t>открытия древ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5562720" y="1219320"/>
            <a:ext cx="3581280" cy="56386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сущее человеку стремление к более глубокому познанию окружающего его мира повлекло за собой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ширение ареала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ивилизации. Люди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ремились познакомиться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 жизнью разных народов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крыть новые неизвестные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терики и страны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шли сотни лет, прежде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ем появились современные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карты, суда, приборы для 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еспечения безопасного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ла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6" dur="indefinite" restart="never" nodeType="tmRoot">
          <p:childTnLst>
            <p:seq>
              <p:cTn id="827" dur="indefinite" nodeType="mainSeq">
                <p:childTnLst>
                  <p:par>
                    <p:cTn id="828" nodeType="clickEffect" fill="hold">
                      <p:stCondLst>
                        <p:cond delay="0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3760" y="304560"/>
            <a:ext cx="3352680" cy="60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Comic Sans MS"/>
              </a:rPr>
              <a:t>Самые первые карты выглядели как рисунки. 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Comic Sans MS"/>
              </a:rPr>
              <a:t>Так, древний путешественник 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Comic Sans MS"/>
              </a:rPr>
              <a:t>пять тысяч лет назад изобразил на серебряной вазе 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Comic Sans MS"/>
              </a:rPr>
              <a:t>две реки, текущие с гор в озеро, 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Comic Sans MS"/>
              </a:rPr>
              <a:t>горы, покрытые лесом, 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Comic Sans MS"/>
              </a:rPr>
              <a:t>а по берегам рек —разных животных, которые там обита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495680" y="304920"/>
            <a:ext cx="419112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ff"/>
                </a:solidFill>
                <a:latin typeface="Comic Sans MS"/>
              </a:rPr>
              <a:t>Прошло время, и люди научились писать.     Тогда путешественники стали записывать, где они побывали и что видели.</a:t>
            </a:r>
            <a:br>
              <a:rPr sz="2200"/>
            </a:br>
            <a:r>
              <a:rPr b="0" lang="ru-RU" sz="2200" spc="-1" strike="noStrike">
                <a:solidFill>
                  <a:srgbClr val="0000ff"/>
                </a:solidFill>
                <a:latin typeface="Comic Sans MS"/>
              </a:rPr>
              <a:t>Первым путешественником, чьё имя нам известно, был египтянин </a:t>
            </a:r>
            <a:r>
              <a:rPr b="1" lang="ru-RU" sz="2200" spc="-1" strike="noStrike">
                <a:solidFill>
                  <a:srgbClr val="ff3300"/>
                </a:solidFill>
                <a:latin typeface="Comic Sans MS"/>
              </a:rPr>
              <a:t>Ханну.</a:t>
            </a:r>
            <a:r>
              <a:rPr b="1" lang="ru-RU" sz="2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ru-RU" sz="2200" spc="-1" strike="noStrike">
                <a:solidFill>
                  <a:srgbClr val="0000ff"/>
                </a:solidFill>
                <a:latin typeface="Comic Sans MS"/>
              </a:rPr>
              <a:t>На корабле он проплыл по Красному морю на юг, в страну </a:t>
            </a:r>
            <a:r>
              <a:rPr b="1" lang="ru-RU" sz="2200" spc="-1" strike="noStrike">
                <a:solidFill>
                  <a:srgbClr val="ff3300"/>
                </a:solidFill>
                <a:latin typeface="Comic Sans MS"/>
              </a:rPr>
              <a:t>Пунт</a:t>
            </a:r>
            <a:r>
              <a:rPr b="0" lang="ru-RU" sz="2200" spc="-1" strike="noStrike">
                <a:solidFill>
                  <a:srgbClr val="0000ff"/>
                </a:solidFill>
                <a:latin typeface="Comic Sans MS"/>
              </a:rPr>
              <a:t>, и вернулся в Египет с грузом благовоний и драгоценных камней. Рассказ о плавании Ханну был высечен на скал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228600" y="1792440"/>
            <a:ext cx="4572000" cy="38462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4"/>
          <p:cNvSpPr/>
          <p:nvPr/>
        </p:nvSpPr>
        <p:spPr>
          <a:xfrm>
            <a:off x="0" y="5715000"/>
            <a:ext cx="4800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3300"/>
                </a:solidFill>
                <a:latin typeface="Georgia"/>
              </a:rPr>
              <a:t>Король и короле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3300"/>
                </a:solidFill>
                <a:latin typeface="Georgia"/>
              </a:rPr>
              <a:t>страны Пу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28600" y="3048120"/>
            <a:ext cx="8686800" cy="3809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3836880" cy="41148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67080" y="274320"/>
            <a:ext cx="4648320" cy="429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Замечательными путешественниками были финикийцы, жившие на берегу Средиземного моря. В древнем мире они были самыми искусными мореходами. Финикийцам удалось первыми обогнуть на кораблях Африку. </a:t>
            </a:r>
            <a:br>
              <a:rPr sz="2000"/>
            </a:br>
            <a:r>
              <a:rPr b="0" i="1" lang="ru-RU" sz="18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Они путешествовали три года. Осенью высаживались на берег, сеяли пшеницу, собирали урожай и снова двигались в путь.</a:t>
            </a:r>
            <a:br>
              <a:rPr sz="2000"/>
            </a:b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 Рассказ об этом записан древнегреческим историком Геродо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3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600200" y="1219320"/>
            <a:ext cx="7543800" cy="5638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1981080" cy="5715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53452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На севере Европы, в Скандинавии, жили суровые викинги. Они строили хорошие корабли и уходили на них далеко в море в поисках новых земель и добычи. Суда викингов огибали Европу, они открыли Исландию, а в </a:t>
            </a:r>
            <a:r>
              <a:rPr b="0" i="1" lang="en-US" sz="2000" spc="-1" strike="noStrike">
                <a:solidFill>
                  <a:srgbClr val="0000ff"/>
                </a:solidFill>
                <a:latin typeface="Georgia"/>
              </a:rPr>
              <a:t>X</a:t>
            </a: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 веке достигли Северной Америки </a:t>
            </a:r>
            <a:br>
              <a:rPr sz="2000"/>
            </a:b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и основали первые поселения. Потом этот путь</a:t>
            </a:r>
            <a:br>
              <a:rPr sz="2000"/>
            </a:b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 был забыт, и пять столетий спустя Колумбу </a:t>
            </a:r>
            <a:br>
              <a:rPr sz="2000"/>
            </a:b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пришлось заново открывать Амери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95280" y="4572000"/>
            <a:ext cx="381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раккар – корабль викингов. Нос корабля украшало резное изображение драко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6650"/>
                            </p:stCondLst>
                            <p:childTnLst>
                              <p:par>
                                <p:cTn id="9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8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7650"/>
                            </p:stCondLst>
                            <p:childTnLst>
                              <p:par>
                                <p:cTn id="10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rcRect l="0" t="39579" r="1281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2193840" cy="26668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4"/>
          <p:cNvSpPr/>
          <p:nvPr/>
        </p:nvSpPr>
        <p:spPr>
          <a:xfrm>
            <a:off x="0" y="266688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3300"/>
                </a:solidFill>
                <a:latin typeface="Georgia"/>
              </a:rPr>
              <a:t>Бартоломеу Диа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3429000" y="152280"/>
            <a:ext cx="5562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Arial"/>
              </a:rPr>
              <a:t>Индия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 всегда представлялась жителям Европы сказочной страной, полной диковин и сокровищ. Она славилась пряностями и благовониями. Португальский мореплаватель Бартоломеу Диаш в 1487 году обогнул самую южную оконечность Африки и назвал её мысом Бур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13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6296040" y="0"/>
            <a:ext cx="2847960" cy="2971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6608880" y="3962520"/>
            <a:ext cx="2535120" cy="28954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304920" y="152280"/>
            <a:ext cx="6476760" cy="63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Морской путь в Индию вокруг Африки проложил </a:t>
            </a:r>
            <a:r>
              <a:rPr b="1" i="1" lang="ru-RU" sz="2000" spc="-1" strike="noStrike">
                <a:solidFill>
                  <a:srgbClr val="ff0066"/>
                </a:solidFill>
                <a:latin typeface="Georgia"/>
              </a:rPr>
              <a:t>Васко да Гама</a:t>
            </a: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. Его экспедиция была тщательно подготовлена: четыре быстроходных корабля, лучшие навигационные приборы и опытные моря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Обогнув мыс Доброй Надежды, экспедиция направилась на север вдоль побережья Африки.   Через девять месяцев после начала плавания, майским днём </a:t>
            </a:r>
            <a:r>
              <a:rPr b="1" i="1" lang="ru-RU" sz="2000" spc="-1" strike="noStrike">
                <a:solidFill>
                  <a:srgbClr val="ff0066"/>
                </a:solidFill>
                <a:latin typeface="Georgia"/>
              </a:rPr>
              <a:t>1498 года</a:t>
            </a: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, корабли прибыли в индийский </a:t>
            </a:r>
            <a:r>
              <a:rPr b="1" i="1" lang="ru-RU" sz="2000" spc="-1" strike="noStrike">
                <a:solidFill>
                  <a:srgbClr val="ff0066"/>
                </a:solidFill>
                <a:latin typeface="Georgia"/>
              </a:rPr>
              <a:t>город Каликут</a:t>
            </a: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Местному правителю, жившему в роскошном дворце, не понравились скромные подарки португальцев, но он с любопытством слушал рассказы бородатых незнакомцев о далёких стран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Ориентироваться в море морякам помогали навигационные приборы, в том числе и </a:t>
            </a:r>
            <a:r>
              <a:rPr b="1" i="1" lang="ru-RU" sz="2000" spc="-1" strike="noStrike">
                <a:solidFill>
                  <a:srgbClr val="ff0066"/>
                </a:solidFill>
                <a:latin typeface="Georgia"/>
              </a:rPr>
              <a:t>астролябия</a:t>
            </a: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 – инструмент для измерения высоты звёзд над уровнем горизо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4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6502320" y="3429000"/>
            <a:ext cx="2641680" cy="342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647712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3"/>
          <a:stretch/>
        </p:blipFill>
        <p:spPr>
          <a:xfrm>
            <a:off x="6492960" y="0"/>
            <a:ext cx="2651040" cy="3429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Христофор Колумб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родился в 145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году в итальянском городе Гену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С 14 лет – плавал юнгрой, изучи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мореходное дело, географию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математи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Летом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1492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года – каравелл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«Санта - Мария», «Пинта», «Нинья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ышли из испанского порта Пало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Через два месяца причалили 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небольшому     острову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провозгласили  его владени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испанского коро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До самой смерти Колумб был уверен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что нашёл путь в Инд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Итальянский путешественни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Америго Веспуччи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– новый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континен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назван в его че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7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18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7650"/>
                            </p:stCondLst>
                            <p:childTnLst>
                              <p:par>
                                <p:cTn id="19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9400"/>
                            </p:stCondLst>
                            <p:childTnLst>
                              <p:par>
                                <p:cTn id="20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1100"/>
                            </p:stCondLst>
                            <p:childTnLst>
                              <p:par>
                                <p:cTn id="20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12100"/>
                            </p:stCondLst>
                            <p:childTnLst>
                              <p:par>
                                <p:cTn id="21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3700"/>
                            </p:stCondLst>
                            <p:childTnLst>
                              <p:par>
                                <p:cTn id="22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5600"/>
                            </p:stCondLst>
                            <p:childTnLst>
                              <p:par>
                                <p:cTn id="23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17450"/>
                            </p:stCondLst>
                            <p:childTnLst>
                              <p:par>
                                <p:cTn id="23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4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9450"/>
                            </p:stCondLst>
                            <p:childTnLst>
                              <p:par>
                                <p:cTn id="24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20800"/>
                            </p:stCondLst>
                            <p:childTnLst>
                              <p:par>
                                <p:cTn id="25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26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23800"/>
                            </p:stCondLst>
                            <p:childTnLst>
                              <p:par>
                                <p:cTn id="26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25700"/>
                            </p:stCondLst>
                            <p:childTnLst>
                              <p:par>
                                <p:cTn id="27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27100"/>
                            </p:stCondLst>
                            <p:childTnLst>
                              <p:par>
                                <p:cTn id="28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28800"/>
                            </p:stCondLst>
                            <p:childTnLst>
                              <p:par>
                                <p:cTn id="28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30750"/>
                            </p:stCondLst>
                            <p:childTnLst>
                              <p:par>
                                <p:cTn id="29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</cp:lastModifiedBy>
  <dcterms:modified xsi:type="dcterms:W3CDTF">2019-03-02T20:55:13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