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1EF-85E2-447F-A193-16070F71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4BD-66A2-41F9-A3B5-94E9A356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37C-39A6-4176-9B9D-F64DEB4E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DD4-637B-4151-B252-5A913F0B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8DD-8481-43FB-B43E-8A86F514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140-E48D-4705-9DA6-62367DF1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B5B-3D8B-4A2F-B06A-B9B3A381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546-42D7-4FD4-817C-0236FD53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FA9-8BE2-4262-978B-F87A958E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5F1-AD27-4B70-9DCA-040684DE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C50-7F3C-4823-9E40-41629ED2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E14-062F-42C6-8593-57B87BEF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EC88-A695-4AFA-B870-09FA39370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8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525744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380880"/>
            <a:ext cx="8686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лики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еографическ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39" t="0" r="0" b="260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ско Нуньес де Бальбоа обнаруж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за американским континен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остирается мор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ернан Магеллан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решил до него д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нтябре 1519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года во главе флотилии из пяти небольших кораблей Магеллан вышел из порта города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виль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и взял курс на Бразилию. Проплыв на юг вдоль берегов Южной Америки, Магеллан нашёл узкий и извилистый пролив, по которому его корабли вышли в океан. Этот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позже назвал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гелан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808680" y="0"/>
            <a:ext cx="233532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6"/>
          <p:cNvSpPr txBox="1"/>
          <p:nvPr/>
        </p:nvSpPr>
        <p:spPr>
          <a:xfrm>
            <a:off x="304920" y="304920"/>
            <a:ext cx="61722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Открытие Тихого оке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9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685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</a:t>
            </a:r>
            <a:r>
              <a:rPr b="0" i="1" lang="en-US" sz="3200" spc="-1" strike="noStrike">
                <a:solidFill>
                  <a:srgbClr val="660066"/>
                </a:solidFill>
                <a:latin typeface="Georgia"/>
              </a:rPr>
              <a:t>XVII</a:t>
            </a: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 веке на просторы тихого океана вышли голлан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Открыли крупный остров - Новая Гвинея – и часть северного побережья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1642 году капитан Абел Тасман открыл большой остров к югу от Австралии, впоследствии названный в его честь Тасманией и Новую Зелан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0" t="0" r="0" b="11108"/>
          <a:stretch/>
        </p:blipFill>
        <p:spPr>
          <a:xfrm>
            <a:off x="6553080" y="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73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437920" y="15192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648 году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емён Иванович Дежнё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открыл пролив между Азией и Америкой, пройдя из Ледовитого океана в Тих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740 году, капитан – командор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итус Беринг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повторил путь Дежнёва, достигнув Северной Америки и открыл ряд островов Алеутской г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19720" y="2733840"/>
            <a:ext cx="4724280" cy="412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809880" y="0"/>
            <a:ext cx="27259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ореплав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жеймс К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уст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есятиле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очность кар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ставленных Бери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к совершил три кругосве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к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овая Зеланд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 острова, а не один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з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й Барьерный риф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ёс 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карту Тихог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еана сотни новых острово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юге открыл Гавайские остр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5410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О присутствии в районе Южного полюса материка, догадывались ещё в древности. Его искали и Абел Тасман и Джеймс Ку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Нашли русские моряки – Фадей Фадеевич Беллинсгаузен и Михаил Петрович Лазаре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1819 году экспедиция под их командованием на двух шлюпках – «Восток» и «Мирный» - отправились из Кронштад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Цель экспедиции –была достигнута. Мореплаватели увидели гористый берег. Так был открыт новый материк, покрытый вечными льд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первые человек ступил на землю Антарктиды только в 189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наше время находятся научно – исследовательские станции 24 государ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53352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крытие Антаркт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51818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рвежский исследователь Фритьоф Нансен в 1893 году на корабле «Фрам». За 500 километров до полюса корабль застрял во льдах, путешественник вернулся обратно п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Американец Роберт Эдвин Пири добрался до полюса на оленьих упря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7 сентября 1908 года. Водрузил Американский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304920" y="152280"/>
            <a:ext cx="5333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Северного полю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9512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Норвежец Руаль Амундсе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эскимосских ездовых собаках и лёгких санях в меховой одежде отправился в 1911 году к Южному полюсу и достиг его 14 декаб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нглийский офицер Роберт Фолкон Скот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маленьких лошадках-пони в шерстяной и брезентовой одежде тоже отправился к Южному полюсу и пришёл на месяц поз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обратном пути англичане поги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7874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2895480" y="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южного полюс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ставьте правильно подписи под портретами великих русских путешествен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Беллинсгаузен Фадей Фад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Дежнёв Семё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Лазарев Михаил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533520" y="304920"/>
            <a:ext cx="8001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275112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0" y="3505320"/>
            <a:ext cx="2843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жнё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ар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429000" y="0"/>
            <a:ext cx="265896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-6480" y="2057400"/>
            <a:ext cx="256068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7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226224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42100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зовите имена этих отваж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57200" y="274680"/>
            <a:ext cx="82296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846840" y="144792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23353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1447920" y="3962520"/>
            <a:ext cx="2590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672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д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тешествовали всегда. Много-много тысяч лет назад древние охотники пускались в путь, чтобы найти охотничьи угодья. Древние скотоводы вместе со своими стадами отправлялись в многодневные походы на поиски свежих пастбищ. Люди осваивали новые земли, пересекали пустыни и перебирались через горы, на лёгких лодочках переплывали моря и даже оке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Географические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открытия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щее человеку стремление к более глубокому познанию окружающего его мира повлекло за со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ареа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и. Лю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мились 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жизнью разных народов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ь новые неизвест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и и стра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ли сотни лет, прежд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явились современн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ы, суда, приборы для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я безопас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3526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Самые первые карты выглядели как рисунки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Так, древний путешественник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ять тысяч лет назад изобразил на серебряной вазе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две реки, текущие с гор в озеро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горы, покрытые лесом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а по берегам рек —разных животных, которые там об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568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рошло время, и люди научились писать.     Тогда путешественники стали записывать, где они побывали и что видел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ервым путешественником, чьё имя нам известно, был египтянин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Ханну.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На корабле он проплыл по Красному морю на юг, в страну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Пунт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, и вернулся в Египет с грузом благовоний и драгоценных камней. Рассказ о плавании Ханну был высечен на ск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1792440"/>
            <a:ext cx="4572000" cy="384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1500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Король и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страны Пу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836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27432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Замечательными путешественниками были финикийцы, жившие на берегу Средиземного моря. В древнем мире они были самыми искусными мореходами. Финикийцам удалось первыми обогнуть на кораблях Африку. </a:t>
            </a:r>
            <a:br>
              <a:rPr sz="2000"/>
            </a:b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ни путешествовали три года. Осенью высаживались на берег, сеяли пшеницу, собирали урожай и снова двигались в путь.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Рассказ об этом записан древнегреческим историком Герод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На севере Европы, в Скандинавии, жили суровые викинги. Они строили хорошие корабли и уходили на них далеко в море в поисках новых земель и добычи. Суда викингов огибали Европу, они открыли Исландию, а в </a:t>
            </a:r>
            <a:r>
              <a:rPr b="0" i="1" lang="en-US" sz="2000" spc="-1" strike="noStrike">
                <a:solidFill>
                  <a:srgbClr val="0000ff"/>
                </a:solidFill>
                <a:latin typeface="Georgia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веке достигли Северной Америки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 основали первые поселения. Потом этот путь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был забыт, и пять столетий спустя Колумбу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пришлось заново открывать Аме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95280" y="4572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кар – корабль викингов. Нос корабля украшало резное изображение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765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39579" r="128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666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Georgia"/>
              </a:rPr>
              <a:t>Бартоломеу Ди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429000" y="15228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Индия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всегда представлялась жителям Европы сказочной страной, полной диковин и сокровищ. Она славилась пряностями и благовониями. Португальский мореплаватель Бартоломеу Диаш в 1487 году обогнул самую южную оконечность Африки и назвал её мысом Бу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296040" y="0"/>
            <a:ext cx="28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608880" y="3962520"/>
            <a:ext cx="253512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04920" y="152280"/>
            <a:ext cx="647676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орской путь в Индию вокруг Африки проложил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Васко да Гам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 Его экспедиция была тщательно подготовлена: четыре быстроходных корабля, лучшие навигационные приборы и опытные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богнув мыс Доброй Надежды, экспедиция направилась на север вдоль побережья Африки.   Через девять месяцев после начала плавания, майским днём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1498 год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, корабли прибыли в индийский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город Каликут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естному правителю, жившему в роскошном дворце, не понравились скромные подарки португальцев, но он с любопытством слушал рассказы бородатых незнакомцев о далё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риентироваться в море морякам помогали навигационные приборы, в том числе и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астролябия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– инструмент для измерения высоты звёзд над уровнем гориз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2320" y="3429000"/>
            <a:ext cx="2641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492960" y="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ристофор Колумб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одился в 14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ду в итальянском городе Ген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14 лет – плавал юнгрой, из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реходное дело, географ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етом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49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ода – каравел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Санта - Мария», «Пинта», «Нин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шли из испанского порта Па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рез два месяца причалил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большому     остр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озгласили  его вла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анского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 самой смерти Колумб был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 нашёл путь в Инд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тальянский путешествен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мериго Веспучч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новы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ван в его 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2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2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9450"/>
                            </p:stCondLst>
                            <p:childTnLst>
                              <p:par>
                                <p:cTn id="2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</cp:lastModifiedBy>
  <dcterms:modified xsi:type="dcterms:W3CDTF">2019-03-02T20:55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