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264-9C69-405B-ABEB-E22DC47A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A67-60F1-41A9-9B95-4BEC9064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B89-D1D8-4D23-973D-B6B56791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FB3-025C-4B38-8A98-B0E65920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C9C-FCF3-41A0-AF3D-1861E226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918-974C-4A05-82AB-CA34F15C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2CB-9E17-425D-8F3E-230B3F6A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B3B-E8EE-4FE5-838A-B8EF15C3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4A5-D25F-4069-B81C-6FF2F8EE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BBF-7AD0-41DA-8B0D-CBED85F2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FFC-BE8E-42D2-99FD-1D729D5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FFE-27B0-40EB-9428-86CCD3E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B992-F3E7-45A5-BBC3-930FB5D91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" descr="бриз.jpg"/>
          <p:cNvPicPr/>
          <p:nvPr/>
        </p:nvPicPr>
        <p:blipFill>
          <a:blip r:embed="rId2"/>
          <a:stretch/>
        </p:blipFill>
        <p:spPr>
          <a:xfrm>
            <a:off x="228600" y="2895480"/>
            <a:ext cx="861048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28600" y="2286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из— ветер, который дует на побережье морей и больших озёр. Направление бриза меняется дважды в сутки: дневной (или морской) бриз дует с моря на разогретое дневными лучами Солнца побережье. Ночной (или береговой) бриз имеет обратное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8686800" y="306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2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"/>
          <p:cNvSpPr/>
          <p:nvPr/>
        </p:nvSpPr>
        <p:spPr>
          <a:xfrm>
            <a:off x="3962520" y="4038480"/>
            <a:ext cx="3456000" cy="13687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876920" y="4365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8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9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4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днев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bris1.png"/>
          <p:cNvPicPr/>
          <p:nvPr/>
        </p:nvPicPr>
        <p:blipFill>
          <a:blip r:embed="rId2"/>
          <a:stretch/>
        </p:blipFill>
        <p:spPr>
          <a:xfrm>
            <a:off x="141120" y="1074600"/>
            <a:ext cx="88617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ноч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bris2.png"/>
          <p:cNvPicPr/>
          <p:nvPr/>
        </p:nvPicPr>
        <p:blipFill>
          <a:blip r:embed="rId2"/>
          <a:stretch/>
        </p:blipFill>
        <p:spPr>
          <a:xfrm>
            <a:off x="141120" y="933480"/>
            <a:ext cx="88617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04920" y="152280"/>
            <a:ext cx="701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сть бриза небольшая, и составляет 1—5м/с, редко больше. Бриз заметен только в условиях слабого общего переноса воздуха, как правило в тропиках, а в средних широтах — в устойчивую безветренную погоду. Вертикальная высота (мощность) воздушного слоя — днем до 1-2 км, ночью — несколько меньше. На большей высоте наблюдается обратное течение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бриз.jpg"/>
          <p:cNvPicPr/>
          <p:nvPr/>
        </p:nvPicPr>
        <p:blipFill>
          <a:blip r:embed="rId1"/>
          <a:stretch/>
        </p:blipFill>
        <p:spPr>
          <a:xfrm>
            <a:off x="152280" y="4952880"/>
            <a:ext cx="8915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8600" y="304920"/>
            <a:ext cx="78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изовая циркуляция затрагивает области побережья и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ириной 10-50 км. Морской бриз понижает температуру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дневное время и делает воздух более влажным. Бриз чаще бывает ле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разница температур между сушей и водоёмом дости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ибольших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more.jpg"/>
          <p:cNvPicPr/>
          <p:nvPr/>
        </p:nvPicPr>
        <p:blipFill>
          <a:blip r:embed="rId1"/>
          <a:stretch/>
        </p:blipFill>
        <p:spPr>
          <a:xfrm>
            <a:off x="685800" y="17524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8-07T13:24:09Z</dcterms:modified>
  <cp:revision>40</cp:revision>
  <dc:subject/>
  <dc:title>Слайд 1</dc:title>
</cp:coreProperties>
</file>