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E58-AA86-4694-84D7-42EC8217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773-019F-4599-BF45-A87B828F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10F-C094-4DCB-8434-7C6CDAD3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6BB-D3AE-4E54-A4EA-6D74FD80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638-3533-4F12-AB11-0EE15859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137-B824-4C1C-AE85-3CA0D526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0A0-52BB-480C-8F19-15A60E95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B31-674C-4D7D-8968-484E13AD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943-D0E3-43FA-9C49-5E5A6378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8B8-32FF-40DD-B641-CB028DE9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447-D463-4677-8547-25EB57BC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852-41FD-40E8-A98D-70A1908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4E2B-EF56-461E-81F7-109FA9168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5" descr="бриз.jpg"/>
          <p:cNvPicPr/>
          <p:nvPr/>
        </p:nvPicPr>
        <p:blipFill>
          <a:blip r:embed="rId2"/>
          <a:stretch/>
        </p:blipFill>
        <p:spPr>
          <a:xfrm>
            <a:off x="228600" y="2895480"/>
            <a:ext cx="861048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28600" y="22860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из— ветер, который дует на побережье морей и больших озёр. Направление бриза меняется дважды в сутки: дневной (или морской) бриз дует с моря на разогретое дневными лучами Солнца побережье. Ночной (или береговой) бриз имеет обратное напр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ется вет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3059280" y="3860640"/>
            <a:ext cx="4622760" cy="18338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78800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3132000" y="3860640"/>
            <a:ext cx="4953240" cy="76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1332000" y="2565360"/>
            <a:ext cx="1854000" cy="1355760"/>
          </a:xfrm>
          <a:prstGeom prst="pie">
            <a:avLst/>
          </a:prstGeom>
          <a:solidFill>
            <a:srgbClr val="9966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8686800" y="306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2"/>
          <p:cNvSpPr/>
          <p:nvPr/>
        </p:nvSpPr>
        <p:spPr>
          <a:xfrm>
            <a:off x="1619280" y="206064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9236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 flipH="1">
            <a:off x="1331280" y="213372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6516720" y="30686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588000" y="306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6084720" y="227664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5076720" y="2997360"/>
            <a:ext cx="828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40328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2268000" y="1125360"/>
            <a:ext cx="1798920" cy="115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 flipH="1">
            <a:off x="2626920" y="1341360"/>
            <a:ext cx="1655640" cy="151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H="1">
            <a:off x="3131640" y="1557360"/>
            <a:ext cx="136692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H="1">
            <a:off x="4427640" y="1557360"/>
            <a:ext cx="358560" cy="187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5219640" y="1484280"/>
            <a:ext cx="720720" cy="20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24360" y="1268280"/>
            <a:ext cx="1511640" cy="1943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H="1" flipV="1">
            <a:off x="2484360" y="2205000"/>
            <a:ext cx="3240000" cy="43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>
            <a:off x="6084720" y="227664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/>
          <p:cNvSpPr/>
          <p:nvPr/>
        </p:nvSpPr>
        <p:spPr>
          <a:xfrm>
            <a:off x="1332000" y="119700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276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р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022E-016 C -0.00625 -0.04745 -0.0125 -0.09491 -0.03333 -0.14236 C -0.05417 -0.18958 -0.08941 -0.25231 -0.125 -0.28449 C -0.16059 -0.31667 -0.2059 -0.32338 -0.24653 -0.33565 C -0.28715 -0.34792 -0.33264 -0.35046 -0.36823 -0.35787 C -0.40382 -0.36528 -0.44497 -0.37685 -0.4599 -0.38009 E">
                                      <p:cBhvr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1.66667E-006 -0.14444 E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-2.22222E-006 -0.13773 E">
                                      <p:cBhvr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6 L -0.00139 -0.16782 E">
                                      <p:cBhvr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4676 E">
                                      <p:cBhvr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C -0.08038 0.00232 -0.16076 0.00463 -0.20902 -0.00879 C -0.25729 -0.02222 -0.26666 -0.06666 -0.28923 -0.08009 C -0.3118 -0.09352 -0.33559 -0.0875 -0.34409 -0.08889 E">
                                      <p:cBhvr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6458 0.00023 -0.12517 0.00185 -0.16389 -0.00139 C -0.2026 -0.00463 -0.21736 -0.01088 -0.23559 -0.02153 C -0.25382 -0.03218 -0.2651 -0.05602 -0.27378 -0.06598 C -0.28246 -0.07593 -0.28212 -0.07778 -0.28715 -0.08148 C -0.29219 -0.08519 -0.29496 -0.08704 -0.30382 -0.0882 C -0.31267 -0.08935 -0.34757 -0.08797 -0.34045 -0.0882 E">
                                      <p:cBhvr>
                                        <p:cTn id="12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7396 0.00069 -0.14392 0.00301 -0.18385 -0.00139 C -0.22378 -0.00579 -0.22726 -0.01482 -0.24392 -0.02824 C -0.26059 -0.04167 -0.26753 -0.07107 -0.28385 -0.08148 C -0.30017 -0.0919 -0.32118 -0.09121 -0.34219 -0.09028 E">
                                      <p:cBhvr>
                                        <p:cTn id="1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>
            <a:off x="1403280" y="2492280"/>
            <a:ext cx="2625840" cy="1648080"/>
          </a:xfrm>
          <a:prstGeom prst="pie">
            <a:avLst/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"/>
          <p:cNvSpPr/>
          <p:nvPr/>
        </p:nvSpPr>
        <p:spPr>
          <a:xfrm>
            <a:off x="3962520" y="4038480"/>
            <a:ext cx="3456000" cy="13687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364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876920" y="4365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0" y="15573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00360" y="549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2411280" y="184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56000" y="184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908000" y="126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6877080" y="328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7020000" y="328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492360" y="206064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чной б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3851280" y="98100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6012000" y="105264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5364000" y="141300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5148360" y="692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>
            <a:off x="6588000" y="1484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7956720" y="2060640"/>
            <a:ext cx="3520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1619280" y="40464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3635280" y="333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1979640" y="1268280"/>
            <a:ext cx="288720" cy="1224000"/>
          </a:xfrm>
          <a:prstGeom prst="downArrow">
            <a:avLst>
              <a:gd name="adj1" fmla="val 50000"/>
              <a:gd name="adj2" fmla="val 1059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6443640" y="2421000"/>
            <a:ext cx="360360" cy="1512720"/>
          </a:xfrm>
          <a:prstGeom prst="upArrow">
            <a:avLst>
              <a:gd name="adj1" fmla="val 50000"/>
              <a:gd name="adj2" fmla="val 1049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2"/>
          <p:cNvSpPr/>
          <p:nvPr/>
        </p:nvSpPr>
        <p:spPr>
          <a:xfrm>
            <a:off x="3059280" y="2421000"/>
            <a:ext cx="3168360" cy="647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76 -0.07778 0.15538 -0.15555 0.24323 -0.19329 C 0.33107 -0.23102 0.43298 -0.23704 0.52656 -0.22662 C 0.62014 -0.2162 0.75816 -0.14745 0.80503 -0.13125 E">
                                      <p:cBhvr>
                                        <p:cTn id="14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8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9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0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2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4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C 0.0243 0.03727 0.04878 0.07454 0.07656 0.1 C 0.10434 0.12546 0.12187 0.14444 0.16667 0.15324 C 0.21146 0.16204 0.31562 0.15347 0.34496 0.15324 E">
                                      <p:cBhvr>
                                        <p:cTn id="2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8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днев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bris1.png"/>
          <p:cNvPicPr/>
          <p:nvPr/>
        </p:nvPicPr>
        <p:blipFill>
          <a:blip r:embed="rId2"/>
          <a:stretch/>
        </p:blipFill>
        <p:spPr>
          <a:xfrm>
            <a:off x="141120" y="1074600"/>
            <a:ext cx="886176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ноч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bris2.png"/>
          <p:cNvPicPr/>
          <p:nvPr/>
        </p:nvPicPr>
        <p:blipFill>
          <a:blip r:embed="rId2"/>
          <a:stretch/>
        </p:blipFill>
        <p:spPr>
          <a:xfrm>
            <a:off x="141120" y="933480"/>
            <a:ext cx="88617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04920" y="152280"/>
            <a:ext cx="701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рость бриза небольшая, и составляет 1—5м/с, редко больше. Бриз заметен только в условиях слабого общего переноса воздуха, как правило в тропиках, а в средних широтах — в устойчивую безветренную погоду. Вертикальная высота (мощность) воздушного слоя — днем до 1-2 км, ночью — несколько меньше. На большей высоте наблюдается обратное течение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бриз.jpg"/>
          <p:cNvPicPr/>
          <p:nvPr/>
        </p:nvPicPr>
        <p:blipFill>
          <a:blip r:embed="rId1"/>
          <a:stretch/>
        </p:blipFill>
        <p:spPr>
          <a:xfrm>
            <a:off x="152280" y="4952880"/>
            <a:ext cx="8915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8600" y="304920"/>
            <a:ext cx="788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изовая циркуляция затрагивает области побережья и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ириной 10-50 км. Морской бриз понижает температуру 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дневное время и делает воздух более влажным. Бриз чаще бывает ле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гда разница температур между сушей и водоёмом дости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ибольших 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more.jpg"/>
          <p:cNvPicPr/>
          <p:nvPr/>
        </p:nvPicPr>
        <p:blipFill>
          <a:blip r:embed="rId1"/>
          <a:stretch/>
        </p:blipFill>
        <p:spPr>
          <a:xfrm>
            <a:off x="685800" y="1752480"/>
            <a:ext cx="7238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8-07T13:24:09Z</dcterms:modified>
  <cp:revision>40</cp:revision>
  <dc:subject/>
  <dc:title>Слайд 1</dc:title>
</cp:coreProperties>
</file>