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BEB8-44F2-4F2F-BB98-6EB5A8C7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D996-D96C-4CA2-AEC0-D3DB05D0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E29-35F4-43D4-9C36-6BDED985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3C31-5342-4700-AC19-88870CED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3D85-2C3F-4DD8-845E-05CFDEB6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62F-1B14-4325-A458-775952AF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2902-EC97-45A4-BC48-57EA17D9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516-4C7E-4476-9FFD-898FFD01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72F-CF17-4C4F-B9D2-9FD81FFC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3969-5491-42A7-B374-545EE632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F60-EB4D-4465-AAB3-EA6C6242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B408-A15A-43B4-9DE2-71C7AB3E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C29D-40F2-487D-BC81-AE4FB0053C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5" descr="бриз.jpg"/>
          <p:cNvPicPr/>
          <p:nvPr/>
        </p:nvPicPr>
        <p:blipFill>
          <a:blip r:embed="rId2"/>
          <a:stretch/>
        </p:blipFill>
        <p:spPr>
          <a:xfrm>
            <a:off x="228600" y="2895480"/>
            <a:ext cx="8610480" cy="3676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228600" y="22860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из— ветер, который дует на побережье морей и больших озёр. Направление бриза меняется дважды в сутки: дневной (или морской) бриз дует с моря на разогретое дневными лучами Солнца побережье. Ночной (или береговой) бриз имеет обратное напр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286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бразуется вет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5"/>
          <p:cNvSpPr/>
          <p:nvPr/>
        </p:nvSpPr>
        <p:spPr>
          <a:xfrm>
            <a:off x="3059280" y="3860640"/>
            <a:ext cx="4622760" cy="183384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788000" y="4221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д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ё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3132000" y="3860640"/>
            <a:ext cx="4953240" cy="763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0"/>
          <p:cNvSpPr/>
          <p:nvPr/>
        </p:nvSpPr>
        <p:spPr>
          <a:xfrm>
            <a:off x="1332000" y="2565360"/>
            <a:ext cx="1854000" cy="1355760"/>
          </a:xfrm>
          <a:prstGeom prst="pie">
            <a:avLst/>
          </a:prstGeom>
          <a:solidFill>
            <a:srgbClr val="996600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8686800" y="306864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2"/>
          <p:cNvSpPr/>
          <p:nvPr/>
        </p:nvSpPr>
        <p:spPr>
          <a:xfrm>
            <a:off x="1619280" y="206064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1692360" y="2133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 flipH="1">
            <a:off x="1331280" y="2133720"/>
            <a:ext cx="228600" cy="430200"/>
          </a:xfrm>
          <a:prstGeom prst="upArrow">
            <a:avLst>
              <a:gd name="adj1" fmla="val 50000"/>
              <a:gd name="adj2" fmla="val 470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5"/>
          <p:cNvSpPr/>
          <p:nvPr/>
        </p:nvSpPr>
        <p:spPr>
          <a:xfrm>
            <a:off x="6516720" y="3068640"/>
            <a:ext cx="6858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588000" y="3068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/>
          <p:cNvSpPr/>
          <p:nvPr/>
        </p:nvSpPr>
        <p:spPr>
          <a:xfrm>
            <a:off x="6084720" y="2276640"/>
            <a:ext cx="287640" cy="431640"/>
          </a:xfrm>
          <a:prstGeom prst="downArrow">
            <a:avLst>
              <a:gd name="adj1" fmla="val 50000"/>
              <a:gd name="adj2" fmla="val 37516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5076720" y="2997360"/>
            <a:ext cx="82872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403280" y="2924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2268000" y="1125360"/>
            <a:ext cx="1798920" cy="115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 flipH="1">
            <a:off x="2626920" y="1341360"/>
            <a:ext cx="1655640" cy="151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 flipH="1">
            <a:off x="3131640" y="1557360"/>
            <a:ext cx="1366920" cy="1800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 flipH="1">
            <a:off x="4427640" y="1557360"/>
            <a:ext cx="358560" cy="1871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5219640" y="1484280"/>
            <a:ext cx="720720" cy="2016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5724360" y="1268280"/>
            <a:ext cx="1511640" cy="1943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6"/>
          <p:cNvSpPr/>
          <p:nvPr/>
        </p:nvSpPr>
        <p:spPr>
          <a:xfrm flipH="1" flipV="1">
            <a:off x="2484360" y="2205000"/>
            <a:ext cx="3240000" cy="4320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7"/>
          <p:cNvSpPr/>
          <p:nvPr/>
        </p:nvSpPr>
        <p:spPr>
          <a:xfrm>
            <a:off x="6084720" y="2276640"/>
            <a:ext cx="358920" cy="1439640"/>
          </a:xfrm>
          <a:prstGeom prst="downArrow">
            <a:avLst>
              <a:gd name="adj1" fmla="val 50000"/>
              <a:gd name="adj2" fmla="val 10027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8"/>
          <p:cNvSpPr/>
          <p:nvPr/>
        </p:nvSpPr>
        <p:spPr>
          <a:xfrm>
            <a:off x="1332000" y="1197000"/>
            <a:ext cx="287280" cy="1295280"/>
          </a:xfrm>
          <a:prstGeom prst="upArrow">
            <a:avLst>
              <a:gd name="adj1" fmla="val 50000"/>
              <a:gd name="adj2" fmla="val 11271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276720" y="155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р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022E-016 C -0.00625 -0.04745 -0.0125 -0.09491 -0.03333 -0.14236 C -0.05417 -0.18958 -0.08941 -0.25231 -0.125 -0.28449 C -0.16059 -0.31667 -0.2059 -0.32338 -0.24653 -0.33565 C -0.28715 -0.34792 -0.33264 -0.35046 -0.36823 -0.35787 C -0.40382 -0.36528 -0.44497 -0.37685 -0.4599 -0.38009 E">
                                      <p:cBhvr>
                                        <p:cTn id="24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1.66667E-006 -0.14444 E">
                                      <p:cBhvr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3333E-006 L -2.22222E-006 -0.13773 E">
                                      <p:cBhvr>
                                        <p:cTn id="6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2106 L -0.00139 -0.16782 E">
                                      <p:cBhvr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5718 E">
                                      <p:cBhvr>
                                        <p:cTn id="9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5718 E">
                                      <p:cBhvr>
                                        <p:cTn id="9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4676 E">
                                      <p:cBhvr>
                                        <p:cTn id="9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C -0.08038 0.00232 -0.16076 0.00463 -0.20902 -0.00879 C -0.25729 -0.02222 -0.26666 -0.06666 -0.28923 -0.08009 C -0.3118 -0.09352 -0.33559 -0.0875 -0.34409 -0.08889 E">
                                      <p:cBhvr>
                                        <p:cTn id="1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39 C -0.06458 0.00023 -0.12517 0.00185 -0.16389 -0.00139 C -0.2026 -0.00463 -0.21736 -0.01088 -0.23559 -0.02153 C -0.25382 -0.03218 -0.2651 -0.05602 -0.27378 -0.06598 C -0.28246 -0.07593 -0.28212 -0.07778 -0.28715 -0.08148 C -0.29219 -0.08519 -0.29496 -0.08704 -0.30382 -0.0882 C -0.31267 -0.08935 -0.34757 -0.08797 -0.34045 -0.0882 E">
                                      <p:cBhvr>
                                        <p:cTn id="12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39 C -0.07396 0.00069 -0.14392 0.00301 -0.18385 -0.00139 C -0.22378 -0.00579 -0.22726 -0.01482 -0.24392 -0.02824 C -0.26059 -0.04167 -0.26753 -0.07107 -0.28385 -0.08148 C -0.30017 -0.0919 -0.32118 -0.09121 -0.34219 -0.09028 E">
                                      <p:cBhvr>
                                        <p:cTn id="12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3"/>
          <p:cNvSpPr/>
          <p:nvPr/>
        </p:nvSpPr>
        <p:spPr>
          <a:xfrm>
            <a:off x="1403280" y="2492280"/>
            <a:ext cx="2625840" cy="1648080"/>
          </a:xfrm>
          <a:prstGeom prst="pie">
            <a:avLst/>
          </a:pr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"/>
          <p:cNvSpPr/>
          <p:nvPr/>
        </p:nvSpPr>
        <p:spPr>
          <a:xfrm>
            <a:off x="3962520" y="4038480"/>
            <a:ext cx="3456000" cy="136872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763640" y="2924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876920" y="4365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д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0" y="155736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2700360" y="54936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"/>
          <p:cNvSpPr/>
          <p:nvPr/>
        </p:nvSpPr>
        <p:spPr>
          <a:xfrm>
            <a:off x="2411280" y="18446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556000" y="184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>
            <a:off x="1908000" y="126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2"/>
          <p:cNvSpPr/>
          <p:nvPr/>
        </p:nvSpPr>
        <p:spPr>
          <a:xfrm>
            <a:off x="6877080" y="32846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7020000" y="328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3492360" y="2060640"/>
            <a:ext cx="22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чной бр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7"/>
          <p:cNvSpPr/>
          <p:nvPr/>
        </p:nvSpPr>
        <p:spPr>
          <a:xfrm>
            <a:off x="3851280" y="981000"/>
            <a:ext cx="35244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8"/>
          <p:cNvSpPr/>
          <p:nvPr/>
        </p:nvSpPr>
        <p:spPr>
          <a:xfrm>
            <a:off x="6012000" y="105264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9"/>
          <p:cNvSpPr/>
          <p:nvPr/>
        </p:nvSpPr>
        <p:spPr>
          <a:xfrm>
            <a:off x="5364000" y="141300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0"/>
          <p:cNvSpPr/>
          <p:nvPr/>
        </p:nvSpPr>
        <p:spPr>
          <a:xfrm>
            <a:off x="5148360" y="69228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1"/>
          <p:cNvSpPr/>
          <p:nvPr/>
        </p:nvSpPr>
        <p:spPr>
          <a:xfrm>
            <a:off x="6588000" y="148428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>
            <a:off x="7956720" y="2060640"/>
            <a:ext cx="3520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3"/>
          <p:cNvSpPr/>
          <p:nvPr/>
        </p:nvSpPr>
        <p:spPr>
          <a:xfrm>
            <a:off x="1619280" y="404640"/>
            <a:ext cx="35244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4"/>
          <p:cNvSpPr/>
          <p:nvPr/>
        </p:nvSpPr>
        <p:spPr>
          <a:xfrm>
            <a:off x="3635280" y="33336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5"/>
          <p:cNvSpPr/>
          <p:nvPr/>
        </p:nvSpPr>
        <p:spPr>
          <a:xfrm>
            <a:off x="1979640" y="1268280"/>
            <a:ext cx="288720" cy="1224000"/>
          </a:xfrm>
          <a:prstGeom prst="downArrow">
            <a:avLst>
              <a:gd name="adj1" fmla="val 50000"/>
              <a:gd name="adj2" fmla="val 10598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6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8"/>
          <p:cNvSpPr/>
          <p:nvPr/>
        </p:nvSpPr>
        <p:spPr>
          <a:xfrm>
            <a:off x="6443640" y="2421000"/>
            <a:ext cx="360360" cy="1512720"/>
          </a:xfrm>
          <a:prstGeom prst="upArrow">
            <a:avLst>
              <a:gd name="adj1" fmla="val 50000"/>
              <a:gd name="adj2" fmla="val 1049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0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1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2"/>
          <p:cNvSpPr/>
          <p:nvPr/>
        </p:nvSpPr>
        <p:spPr>
          <a:xfrm>
            <a:off x="3059280" y="2421000"/>
            <a:ext cx="3168360" cy="64764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C 0.0776 -0.07778 0.15538 -0.15555 0.24323 -0.19329 C 0.33107 -0.23102 0.43298 -0.23704 0.52656 -0.22662 C 0.62014 -0.2162 0.75816 -0.14745 0.80503 -0.13125 E">
                                      <p:cBhvr>
                                        <p:cTn id="145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18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19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20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2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35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500"/>
                            </p:stCondLst>
                            <p:childTnLst>
                              <p:par>
                                <p:cTn id="2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4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7 C 0.0243 0.03727 0.04878 0.07454 0.07656 0.1 C 0.10434 0.12546 0.12187 0.14444 0.16667 0.15324 C 0.21146 0.16204 0.31562 0.15347 0.34496 0.15324 E">
                                      <p:cBhvr>
                                        <p:cTn id="26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185 C 0.0243 0.03542 0.04878 0.07268 0.07656 0.09815 C 0.10434 0.12361 0.12187 0.14259 0.16666 0.15139 C 0.21146 0.16018 0.31562 0.15162 0.34496 0.15139 E">
                                      <p:cBhvr>
                                        <p:cTn id="27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0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185 C 0.0243 0.03542 0.04878 0.07268 0.07656 0.09815 C 0.10434 0.12361 0.12187 0.14259 0.16666 0.15139 C 0.21146 0.16018 0.31562 0.15162 0.34496 0.15139 E">
                                      <p:cBhvr>
                                        <p:cTn id="28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ция дневного бр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bris1.png"/>
          <p:cNvPicPr/>
          <p:nvPr/>
        </p:nvPicPr>
        <p:blipFill>
          <a:blip r:embed="rId2"/>
          <a:stretch/>
        </p:blipFill>
        <p:spPr>
          <a:xfrm>
            <a:off x="141120" y="1074600"/>
            <a:ext cx="886176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ция ночного бр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bris2.png"/>
          <p:cNvPicPr/>
          <p:nvPr/>
        </p:nvPicPr>
        <p:blipFill>
          <a:blip r:embed="rId2"/>
          <a:stretch/>
        </p:blipFill>
        <p:spPr>
          <a:xfrm>
            <a:off x="141120" y="933480"/>
            <a:ext cx="886176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304920" y="152280"/>
            <a:ext cx="7010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рость бриза небольшая, и составляет 1—5м/с, редко больше. Бриз заметен только в условиях слабого общего переноса воздуха, как правило в тропиках, а в средних широтах — в устойчивую безветренную погоду. Вертикальная высота (мощность) воздушного слоя — днем до 1-2 км, ночью — несколько меньше. На большей высоте наблюдается обратное течение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бриз.jpg"/>
          <p:cNvPicPr/>
          <p:nvPr/>
        </p:nvPicPr>
        <p:blipFill>
          <a:blip r:embed="rId1"/>
          <a:stretch/>
        </p:blipFill>
        <p:spPr>
          <a:xfrm>
            <a:off x="152280" y="4952880"/>
            <a:ext cx="8915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28600" y="304920"/>
            <a:ext cx="788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ризовая циркуляция затрагивает области побережья и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шириной 10-50 км. Морской бриз понижает температуру возду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дневное время и делает воздух более влажным. Бриз чаще бывает ле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гда разница температур между сушей и водоёмом достиг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ибольших зна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2" descr="more.jpg"/>
          <p:cNvPicPr/>
          <p:nvPr/>
        </p:nvPicPr>
        <p:blipFill>
          <a:blip r:embed="rId1"/>
          <a:stretch/>
        </p:blipFill>
        <p:spPr>
          <a:xfrm>
            <a:off x="685800" y="1752480"/>
            <a:ext cx="7238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8-07T13:24:09Z</dcterms:modified>
  <cp:revision>40</cp:revision>
  <dc:subject/>
  <dc:title>Слайд 1</dc:title>
</cp:coreProperties>
</file>