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0B0-2060-4626-A28B-92FC78F6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6E2-D51E-4121-9BC9-F8FCC6D9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912-A266-4860-88D3-DA051922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9EB-1439-488D-8071-011C91AC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557-8C0F-48D1-9711-31E40C1F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F45-2400-47F6-B41E-895DB456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EC9-4E75-4869-B692-1861F160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904-0777-40F1-BBC3-A7645EBE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245-EC94-46D0-B7D9-4A641D92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282-56C6-4A97-A1E3-7CD1099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CC3-110E-49D8-8A0F-B45DB0B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5A9-3401-4880-911D-CE92769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656E-6D46-48BA-935D-063B2AA923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" descr="бриз.jpg"/>
          <p:cNvPicPr/>
          <p:nvPr/>
        </p:nvPicPr>
        <p:blipFill>
          <a:blip r:embed="rId2"/>
          <a:stretch/>
        </p:blipFill>
        <p:spPr>
          <a:xfrm>
            <a:off x="228600" y="2895480"/>
            <a:ext cx="861048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28600" y="2286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из— ветер, который дует на побережье морей и больших озёр. Направление бриза меняется дважды в сутки: дневной (или морской) бриз дует с моря на разогретое дневными лучами Солнца побережье. Ночной (или береговой) бриз имеет обратное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8686800" y="306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2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"/>
          <p:cNvSpPr/>
          <p:nvPr/>
        </p:nvSpPr>
        <p:spPr>
          <a:xfrm>
            <a:off x="3962520" y="4038480"/>
            <a:ext cx="3456000" cy="13687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876920" y="4365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8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9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4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днев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bris1.png"/>
          <p:cNvPicPr/>
          <p:nvPr/>
        </p:nvPicPr>
        <p:blipFill>
          <a:blip r:embed="rId2"/>
          <a:stretch/>
        </p:blipFill>
        <p:spPr>
          <a:xfrm>
            <a:off x="141120" y="1074600"/>
            <a:ext cx="88617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ноч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bris2.png"/>
          <p:cNvPicPr/>
          <p:nvPr/>
        </p:nvPicPr>
        <p:blipFill>
          <a:blip r:embed="rId2"/>
          <a:stretch/>
        </p:blipFill>
        <p:spPr>
          <a:xfrm>
            <a:off x="141120" y="933480"/>
            <a:ext cx="88617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04920" y="152280"/>
            <a:ext cx="701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сть бриза небольшая, и составляет 1—5м/с, редко больше. Бриз заметен только в условиях слабого общего переноса воздуха, как правило в тропиках, а в средних широтах — в устойчивую безветренную погоду. Вертикальная высота (мощность) воздушного слоя — днем до 1-2 км, ночью — несколько меньше. На большей высоте наблюдается обратное течение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бриз.jpg"/>
          <p:cNvPicPr/>
          <p:nvPr/>
        </p:nvPicPr>
        <p:blipFill>
          <a:blip r:embed="rId1"/>
          <a:stretch/>
        </p:blipFill>
        <p:spPr>
          <a:xfrm>
            <a:off x="152280" y="4952880"/>
            <a:ext cx="8915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8600" y="304920"/>
            <a:ext cx="78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изовая циркуляция затрагивает области побережья и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ириной 10-50 км. Морской бриз понижает температуру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дневное время и делает воздух более влажным. Бриз чаще бывает ле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разница температур между сушей и водоёмом дости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ибольших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more.jpg"/>
          <p:cNvPicPr/>
          <p:nvPr/>
        </p:nvPicPr>
        <p:blipFill>
          <a:blip r:embed="rId1"/>
          <a:stretch/>
        </p:blipFill>
        <p:spPr>
          <a:xfrm>
            <a:off x="685800" y="17524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8-07T13:24:09Z</dcterms:modified>
  <cp:revision>40</cp:revision>
  <dc:subject/>
  <dc:title>Слайд 1</dc:title>
</cp:coreProperties>
</file>